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7ED0-5945-4749-93D9-47510ED8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1425-A2BD-4B50-A183-743089D2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6135-78D7-431F-AD8D-355FCE83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D772-D9C0-4AEF-9963-5D69E72C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C98C-4DA9-4975-AA41-91697993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DC3F-FEE0-43A7-8C1B-0E386BB4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D871-2272-49D2-95C5-158C43C5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A385-8123-4DB8-BBAA-2D56D492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2D8A-C905-469A-977B-6A32C745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6392-A339-4723-A85F-831ABD09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7FC1-C216-4B63-8AFE-C1FAF4E9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704F-F26F-4707-B94E-559BF2C9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7F99-CA1D-4A56-8AAE-9F4CD31DD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990720"/>
            <a:ext cx="777240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l imperfecto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y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l preterito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375360" y="5892840"/>
            <a:ext cx="25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. 2 ch.10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8088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One of the usages of the imperfect is to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set the scene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...when </a:t>
            </a:r>
            <a:r>
              <a:rPr b="0" i="1" lang="en-US" sz="3600" spc="-1" strike="noStrike">
                <a:solidFill>
                  <a:srgbClr val="990099"/>
                </a:solidFill>
                <a:latin typeface="Times New Roman"/>
              </a:rPr>
              <a:t>something specific happens or interrupts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2590920"/>
            <a:ext cx="60199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was watching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the floor when he </a:t>
            </a:r>
            <a:r>
              <a:rPr b="1" i="1" lang="en-US" sz="4000" spc="-1" strike="noStrike">
                <a:solidFill>
                  <a:srgbClr val="990099"/>
                </a:solidFill>
                <a:latin typeface="Times New Roman"/>
              </a:rPr>
              <a:t>saw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the inse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Él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miraba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el suelo cuando </a:t>
            </a:r>
            <a:r>
              <a:rPr b="1" i="1" lang="en-US" sz="4000" spc="-1" strike="noStrike">
                <a:solidFill>
                  <a:srgbClr val="990099"/>
                </a:solidFill>
                <a:latin typeface="Times New Roman"/>
              </a:rPr>
              <a:t>vio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el insect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2362320"/>
          <a:ext cx="1905120" cy="426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362320"/>
                    <a:ext cx="19051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791320" cy="3585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et the scene for another past a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51814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odos los niños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miraban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cuando el castillo se rompió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286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ell what was happening at a certain ti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51814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arlos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manejaba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a Chicago cuando empezó a llo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278400" cy="3267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685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pecemos con el infinitivo.  Quitemos la termin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533520"/>
            <a:ext cx="7162920" cy="7617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1523880"/>
            <a:ext cx="1218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b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152388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150984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523880"/>
            <a:ext cx="1371600" cy="106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1523880"/>
            <a:ext cx="1371600" cy="106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1523880"/>
            <a:ext cx="1371600" cy="106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28954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ñadamos la terminación nueva para el imperfect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2743200"/>
            <a:ext cx="7162920" cy="7621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3962520"/>
            <a:ext cx="3429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b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hab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áb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b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a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b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hab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3962520"/>
            <a:ext cx="2895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co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co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3962520"/>
            <a:ext cx="2666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vi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vi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3886200"/>
            <a:ext cx="3276720" cy="175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3886200"/>
            <a:ext cx="5257800" cy="175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14400" y="533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¡Hay solam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9880" y="380880"/>
            <a:ext cx="64152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res</a:t>
            </a:r>
            <a:endParaRPr b="0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erbos irregulare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1676520"/>
            <a:ext cx="28195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a   éra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as   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a    er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2297160"/>
            <a:ext cx="2971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ba     íba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bas   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ba       ib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3200400"/>
            <a:ext cx="30481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eía    veía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eías   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eía     veí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2209680"/>
            <a:ext cx="29718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048120"/>
            <a:ext cx="3047760" cy="350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1676520"/>
            <a:ext cx="2819160" cy="32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7632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atch out for these verbs that have different meanings in </a:t>
            </a:r>
            <a:r>
              <a:rPr b="1" i="1" lang="en-US" sz="3600" spc="-1" strike="noStrike">
                <a:solidFill>
                  <a:srgbClr val="990099"/>
                </a:solidFill>
                <a:latin typeface="Times New Roman"/>
              </a:rPr>
              <a:t>the preterit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than in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the imperfect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1828800"/>
            <a:ext cx="289584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oc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en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fer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868400"/>
            <a:ext cx="365760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</a:rPr>
              <a:t>found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</a:rPr>
              <a:t>m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</a:rPr>
              <a:t>refused (neg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0099"/>
                </a:solidFill>
                <a:latin typeface="Times New Roman"/>
              </a:rPr>
              <a:t>managed, fail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</a:rPr>
              <a:t>reciev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</a:rPr>
              <a:t>became, “got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</a:rPr>
              <a:t>caught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</a:rPr>
              <a:t>prefer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1828800"/>
            <a:ext cx="335268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knew (info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knew (a pers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an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had the 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ossessed, h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ecame, “got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underst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eci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01:01:08Z</dcterms:created>
  <dc:creator>LAHS</dc:creator>
  <dc:description/>
  <dc:language>en-US</dc:language>
  <cp:lastModifiedBy>Jeff</cp:lastModifiedBy>
  <dcterms:modified xsi:type="dcterms:W3CDTF">2005-07-24T02:57:23Z</dcterms:modified>
  <cp:revision>25</cp:revision>
  <dc:subject/>
  <dc:title>No Slide Title</dc:title>
</cp:coreProperties>
</file>